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10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22.jpeg" ContentType="image/jpeg"/>
  <Override PartName="/ppt/media/image3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1.jpeg" ContentType="image/jpeg"/>
  <Override PartName="/ppt/media/image45.jpeg" ContentType="image/jpeg"/>
  <Override PartName="/ppt/media/image44.jpeg" ContentType="image/jpeg"/>
  <Override PartName="/ppt/media/image38.jpeg" ContentType="image/jpeg"/>
  <Override PartName="/ppt/media/image46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54.jpeg" ContentType="image/jpeg"/>
  <Override PartName="/ppt/media/image33.jpeg" ContentType="image/jpeg"/>
  <Override PartName="/ppt/media/image55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34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ADBA-5F9F-431F-AE45-19CE24A07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6E72-DDD1-46BA-BFC4-5203699F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80D0-E0C4-48E2-A028-E3C723FD2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61BE-0AA8-43EC-A227-0C00CD6D9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4DEE-D64D-42CD-AFD8-7AC9E4F66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8275-3827-4027-934D-454FA454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B83E-0F27-4872-A999-282CBDD6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DBB8-5359-4EB4-8E86-AD279246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CC99-6955-4195-8391-52DD446E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6A2E-FF4D-4ACC-A246-698B1403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45AD-4125-4981-8BFB-CF5C37F1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D76D-6035-49A7-8990-F85FB468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7C1B-1FF5-4A79-B94F-4DA1ED62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1532-C80B-49CA-8CDB-A6516525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A8FD-3AAF-4956-84E8-9CFB61CF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381D-C03A-419E-9D51-9EA49EE55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F8B9-1CB8-4719-9990-CA6D17C84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BF1C2-F84E-45A3-843B-2EFC92C9B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7D972-23E7-4C3C-8CE0-D05C839F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E3A13-E14B-4125-BB9B-0998D437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066D0-7D76-4F0B-BC51-3672B4E5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A738E-3FC1-4B21-8319-62AB3B29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0EA5-800D-4279-B8F8-3DF803B5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F5C3F-CE24-49C5-A3F1-92D011F5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AE2FC-6EB7-40F5-98D7-E0710BF4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AFDB6-516B-498A-9680-AF457ACB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FE34A-13CB-4BDF-A81B-93087A01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C6D97-103C-4E6A-BF92-9596A05D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B620C-AE10-4DD0-AE73-A35568C4B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CF5B2-A75F-4304-844D-9790E71DB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FDB43-E75A-44F1-97F6-5ED234085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D5BD3-044D-4758-8506-15A6F0D4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144B0-18C2-4FE0-AFE7-73A3A204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DA9E-07CD-47C0-A734-81D67D35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EE8DC-D68C-411D-AD28-D9FF621E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55367-81F0-4A51-96A9-70A8FCB5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9F674-2947-428A-A4C3-3C941DC3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319CE-913E-4F3B-9E85-F6AFE7AC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8CCB5-4342-4E33-AC33-83574371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AF034-EF1D-4850-85F2-E32FDBF0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01014-2033-4EE8-A8F9-798882A9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92A01-C344-4D8A-877B-C0335FCA8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042DA-3CF6-498A-AE7B-D5A2228A5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61B9-AE58-4D65-A4F8-FFE8280A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8732-7FF9-4E05-893D-04F16FF0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0814-E328-45B3-8428-B614DC05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2BE3-4497-4FD8-B687-BCFB3362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A367-A27B-4DCC-80DB-6EDF31FD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405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405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405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4429-A3B3-4D01-A230-9BE520330A82}" type="slidenum">
              <a:rPr b="0" lang="en-US" sz="1200" spc="-1" strike="noStrike">
                <a:solidFill>
                  <a:srgbClr val="3f405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d4d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d4d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d4d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291F-2785-48C3-B643-650CE0722927}" type="slidenum">
              <a:rPr b="0" lang="en-US" sz="1200" spc="-1" strike="noStrike">
                <a:solidFill>
                  <a:srgbClr val="d4d4d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d4d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d4d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d4d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AAFB-F3FC-4FCF-A6E2-01D40BBAFE45}" type="slidenum">
              <a:rPr b="0" lang="en-US" sz="1200" spc="-1" strike="noStrike">
                <a:solidFill>
                  <a:srgbClr val="d4d4d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405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405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405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6BA2-D803-4082-AE8D-311556EFBF24}" type="slidenum">
              <a:rPr b="0" lang="en-US" sz="1200" spc="-1" strike="noStrike">
                <a:solidFill>
                  <a:srgbClr val="3f405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bg/imgres?imgurl=http://www.bnr.bg/NR/rdonlyres/2518ACED-7028-46E7-ABDA-F4A3BB64526B/0/r_kabaivanska_portret.jpg&amp;imgrefurl=http://www.bnr.bg/RadioBulgaria/Emission_Greek/Theme_Muzika/Material/18092007_kabaivanska_kallas.htm&amp;h=446&amp;w=310&amp;sz=23&amp;hl=bg&amp;start=2&amp;um=1&amp;tbnid=mXb6BWkUnACXZM:&amp;tbnh=127&amp;tbnw=88&amp;prev=/images%3Fq%3D%25D0%25A0%25D0%25B0%25D0%25B9%25D0%25BD%25D0%25B0%2B%25D0%259A%25D0%25B0%25D0%25B1%25D0%25B0%25D0%25B8%25D0%25B2%25D0%25B0%25D0%25BD%25D1%2581%25D0%25BA%25D0%25B0%26um%3D1%26hl%3Dbg%26sa%3DN" TargetMode="External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hyperlink" Target="http://movie.pop.bg/person23430.html" TargetMode="External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hyperlink" Target="http://music.pop.bg/person47.html" TargetMode="External"/><Relationship Id="rId7" Type="http://schemas.openxmlformats.org/officeDocument/2006/relationships/image" Target="../media/image43.jpeg"/><Relationship Id="rId8" Type="http://schemas.openxmlformats.org/officeDocument/2006/relationships/hyperlink" Target="http://lili-ivanova.hit.bg/album6.html" TargetMode="External"/><Relationship Id="rId9" Type="http://schemas.openxmlformats.org/officeDocument/2006/relationships/image" Target="../media/image44.jpeg"/><Relationship Id="rId10" Type="http://schemas.openxmlformats.org/officeDocument/2006/relationships/image" Target="../media/image45.jpeg"/><Relationship Id="rId11" Type="http://schemas.openxmlformats.org/officeDocument/2006/relationships/image" Target="../media/image46.jpe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hyperlink" Target="http://bg.wikipedia.org/wiki/&#1050;&#1072;&#1088;&#1090;&#1080;&#1085;&#1082;&#1072;:Vazov_Museum_Sopot.jp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bg.wikipedia.org/wiki/&#1057;&#1086;&#1087;&#1086;&#1090;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hyperlink" Target="http://bg.wikipedia.org/wiki/&#1050;&#1072;&#1088;&#1090;&#1080;&#1085;&#1082;&#1072;:Baylovo-Elin-Pelin-house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google.bg/imgres?imgurl=http://upload.wikimedia.org/wikipedia/bg/thumb/6/6a/Elin_Pelin.jpg/160px-Elin_Pelin.jpg&amp;imgrefurl=http://www.fresh-bg.com/forum/viewtopic.php%3Fp%3D12033&amp;h=242&amp;w=160&amp;sz=8&amp;hl=bg&amp;start=5&amp;um=1&amp;tbnid=lpHO4-4WbTfaUM:&amp;tbnh=110&amp;tbnw=73&amp;prev=/images%3Fq%3D%25D0%2595%25D0%25BB%25D0%25B8%25D0%25BD%2B%25D0%259F%25D0%25B5%25D0%25BB%25D0%25B8%25D0%25BD%26um%3D1%26hl%3Dbg%26sa%3DN" TargetMode="External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bg/imgres?imgurl=http://dichev.com/blog/wp-content/uploads/2007/06/ran_bosilek.gif&amp;imgrefurl=http://dichev.com/blog/%3Flivehit%3D%26paged%3D16&amp;h=250&amp;w=200&amp;sz=38&amp;hl=bg&amp;start=1&amp;um=1&amp;tbnid=yy648NgF2VdzjM:&amp;tbnh=111&amp;tbnw=89&amp;prev=/images%3Fq%3D%25D0%25A0%25D0%25B0%25D0%25BD%2B%25D0%2591%25D0%25BE%25D1%2581%25D0%25B8%25D0%25BB%25D0%25B5%25D0%25BA%26um%3D1%26hl%3Dbg" TargetMode="External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bg/imgres?imgurl=http://media.abv.bg/img.phtml%3Fid%3D223007&amp;imgrefurl=http://www.netinfo.bg/%3Ftid%3D40%26oid%3D1129883&amp;h=453&amp;w=365&amp;sz=29&amp;hl=bg&amp;start=17&amp;um=1&amp;tbnid=i2LMpyeSInxDKM:&amp;tbnh=127&amp;tbnw=102&amp;prev=/images%3Fq%3D%25D0%2597%25D0%25BB%25D0%25B0%25D1%2582%25D1%258E%2B%25D0%2591%25D0%25BE%25D1%258F%25D0%25B4%25D0%25B6%25D0%25B8%25D0%25B5%25D0%25B2%26um%3D1%26hl%3Dbg%26sa%3DN" TargetMode="External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g.wikipedia.org/wiki/&#1063;&#1077;&#1093;&#1080;&#1103;" TargetMode="External"/><Relationship Id="rId3" Type="http://schemas.openxmlformats.org/officeDocument/2006/relationships/hyperlink" Target="http://bg.wikipedia.org/wiki/&#1046;&#1080;&#1074;&#1086;&#1087;&#1080;&#1089;" TargetMode="External"/><Relationship Id="rId4" Type="http://schemas.openxmlformats.org/officeDocument/2006/relationships/hyperlink" Target="http://bg.wikipedia.org/wiki/&#1048;&#1079;&#1090;&#1086;&#1095;&#1085;&#1072;_&#1056;&#1091;&#1084;&#1077;&#1083;&#1080;&#1103;" TargetMode="External"/><Relationship Id="rId5" Type="http://schemas.openxmlformats.org/officeDocument/2006/relationships/hyperlink" Target="http://bg.wikipedia.org/wiki/1881" TargetMode="External"/><Relationship Id="rId6" Type="http://schemas.openxmlformats.org/officeDocument/2006/relationships/hyperlink" Target="http://bg.wikipedia.org/wiki/&#1055;&#1083;&#1086;&#1074;&#1076;&#1080;&#1074;" TargetMode="External"/><Relationship Id="rId7" Type="http://schemas.openxmlformats.org/officeDocument/2006/relationships/hyperlink" Target="http://bg.wikipedia.org/wiki/&#1048;&#1074;&#1072;&#1085;_&#1042;&#1072;&#1079;&#1086;&#1074;" TargetMode="External"/><Relationship Id="rId8" Type="http://schemas.openxmlformats.org/officeDocument/2006/relationships/hyperlink" Target="http://bg.wikipedia.org/wiki/&#1050;&#1086;&#1085;&#1089;&#1090;&#1072;&#1085;&#1090;&#1080;&#1085;_&#1042;&#1077;&#1083;&#1080;&#1095;&#1082;&#1086;&#1074;" TargetMode="External"/><Relationship Id="rId9" Type="http://schemas.openxmlformats.org/officeDocument/2006/relationships/hyperlink" Target="http://bg.wikipedia.org/wiki/&#1055;&#1077;&#1090;&#1082;&#1086;_&#1050;&#1072;&#1088;&#1072;&#1074;&#1077;&#1083;&#1086;&#1074;" TargetMode="External"/><Relationship Id="rId10" Type="http://schemas.openxmlformats.org/officeDocument/2006/relationships/hyperlink" Target="http://bg.wikipedia.org/wiki/&#1055;&#1077;&#1090;&#1082;&#1086;_&#1056;._&#1057;&#1083;&#1072;&#1074;&#1077;&#1081;&#1082;&#1086;&#1074;" TargetMode="External"/><Relationship Id="rId11" Type="http://schemas.openxmlformats.org/officeDocument/2006/relationships/hyperlink" Target="http://bg.wikipedia.org/wiki/&#1055;&#1083;&#1086;&#1074;&#1076;&#1080;&#1074;" TargetMode="External"/><Relationship Id="rId12" Type="http://schemas.openxmlformats.org/officeDocument/2006/relationships/hyperlink" Target="http://images.google.bg/imgres?imgurl=http://standartnews.com/images/articles/orig_153457_bg.jpg&amp;imgrefurl=http://new.standartnews.com/bg/article.php%3Fd%3D2006-07-18%26article%3D153457&amp;h=355&amp;w=300&amp;sz=47&amp;hl=bg&amp;start=1&amp;um=1&amp;tbnid=TvzbKAqdgBoeUM:&amp;tbnh=121&amp;tbnw=102&amp;prev=/images%3Fq%3D%25D0%2598%25D0%25B2%25D0%25B0%25D0%25BD%2B%25D0%259C%25D1%258A%25D1%2580%25D0%25BA%25D0%25B2%25D0%25B8%25D1%2587%25D0%25BA%25D0%25B0%26um%3D1%26hl%3Dbg%26sa%3DN" TargetMode="External"/><Relationship Id="rId13" Type="http://schemas.openxmlformats.org/officeDocument/2006/relationships/image" Target="../media/image31.jpeg"/><Relationship Id="rId14" Type="http://schemas.openxmlformats.org/officeDocument/2006/relationships/image" Target="../media/image32.jpeg"/><Relationship Id="rId15" Type="http://schemas.openxmlformats.org/officeDocument/2006/relationships/hyperlink" Target="http://calendar.dir.bg/view_pic.php?eid=21678" TargetMode="External"/><Relationship Id="rId16" Type="http://schemas.openxmlformats.org/officeDocument/2006/relationships/image" Target="../media/image33.jpeg"/><Relationship Id="rId17" Type="http://schemas.openxmlformats.org/officeDocument/2006/relationships/image" Target="../media/image34.jpeg"/><Relationship Id="rId18" Type="http://schemas.openxmlformats.org/officeDocument/2006/relationships/image" Target="../media/image35.jpeg"/><Relationship Id="rId19" Type="http://schemas.openxmlformats.org/officeDocument/2006/relationships/image" Target="../media/image36.jpe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-92160" y="603360"/>
            <a:ext cx="9382320" cy="4736880"/>
          </a:xfrm>
          <a:prstGeom prst="rect">
            <a:avLst/>
          </a:prstGeom>
          <a:ln w="0">
            <a:noFill/>
          </a:ln>
        </p:spPr>
      </p:pic>
      <p:pic>
        <p:nvPicPr>
          <p:cNvPr id="196" name="Title 1" descr=""/>
          <p:cNvPicPr/>
          <p:nvPr/>
        </p:nvPicPr>
        <p:blipFill>
          <a:blip r:embed="rId3"/>
          <a:stretch/>
        </p:blipFill>
        <p:spPr>
          <a:xfrm>
            <a:off x="6248520" y="6334200"/>
            <a:ext cx="2646360" cy="414360"/>
          </a:xfrm>
          <a:prstGeom prst="rect">
            <a:avLst/>
          </a:prstGeom>
          <a:ln w="0">
            <a:noFill/>
          </a:ln>
        </p:spPr>
      </p:pic>
      <p:pic>
        <p:nvPicPr>
          <p:cNvPr id="197" name="15 - vangelis - la petite fille de la mer.mp3" descr=""/>
          <p:cNvPicPr/>
          <p:nvPr/>
        </p:nvPicPr>
        <p:blipFill>
          <a:blip r:embed="rId4"/>
          <a:stretch/>
        </p:blipFill>
        <p:spPr>
          <a:xfrm>
            <a:off x="54864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666880" y="9140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424456"/>
                </a:solidFill>
                <a:latin typeface="Calibri"/>
              </a:rPr>
              <a:t>Велики български оперни певци</a:t>
            </a:r>
            <a:endParaRPr b="0" lang="en-US" sz="45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560" y="4495680"/>
            <a:ext cx="19047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400" spc="-1" strike="noStrike">
                <a:solidFill>
                  <a:srgbClr val="000000"/>
                </a:solidFill>
                <a:latin typeface="Calibri"/>
              </a:rPr>
              <a:t>Николай Гяуров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Picture 2" descr="http://tbn0.google.com/images?q=tbn:mXb6BWkUnACXZM:http://www.bnr.bg/NR/rdonlyres/2518ACED-7028-46E7-ABDA-F4A3BB64526B/0/r_kabaivanska_portret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657600" y="2057400"/>
            <a:ext cx="1523880" cy="2198520"/>
          </a:xfrm>
          <a:prstGeom prst="rect">
            <a:avLst/>
          </a:prstGeom>
          <a:ln w="0">
            <a:noFill/>
          </a:ln>
        </p:spPr>
      </p:pic>
      <p:sp>
        <p:nvSpPr>
          <p:cNvPr id="253" name="Title 1"/>
          <p:cNvSpPr/>
          <p:nvPr/>
        </p:nvSpPr>
        <p:spPr>
          <a:xfrm>
            <a:off x="3276720" y="4495680"/>
            <a:ext cx="2666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Рай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Кабаиван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http://www.ideabg.com/clients/funtime/gal/photos/81k.jpg"/>
          <p:cNvPicPr/>
          <p:nvPr/>
        </p:nvPicPr>
        <p:blipFill>
          <a:blip r:embed="rId4"/>
          <a:stretch/>
        </p:blipFill>
        <p:spPr>
          <a:xfrm>
            <a:off x="6553080" y="2590920"/>
            <a:ext cx="2114640" cy="2438280"/>
          </a:xfrm>
          <a:prstGeom prst="rect">
            <a:avLst/>
          </a:prstGeom>
          <a:ln w="0">
            <a:noFill/>
          </a:ln>
        </p:spPr>
      </p:pic>
      <p:sp>
        <p:nvSpPr>
          <p:cNvPr id="255" name="Title 1"/>
          <p:cNvSpPr/>
          <p:nvPr/>
        </p:nvSpPr>
        <p:spPr>
          <a:xfrm>
            <a:off x="6324480" y="5334120"/>
            <a:ext cx="2667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Борис Христ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8" descr="http://www.bnr.bg/NR/rdonlyres/EC902FDD-78D8-4BB8-ABA5-9A99B48CA28E/0/n_ghiaurov.jpg"/>
          <p:cNvPicPr/>
          <p:nvPr/>
        </p:nvPicPr>
        <p:blipFill>
          <a:blip r:embed="rId5"/>
          <a:stretch/>
        </p:blipFill>
        <p:spPr>
          <a:xfrm>
            <a:off x="152280" y="1066680"/>
            <a:ext cx="22100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78487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424456"/>
                </a:solidFill>
                <a:latin typeface="Calibri"/>
              </a:rPr>
              <a:t>Велики български артисти</a:t>
            </a:r>
            <a:endParaRPr b="0" lang="en-US" sz="4500" spc="-1" strike="noStrike">
              <a:solidFill>
                <a:srgbClr val="424456"/>
              </a:solidFill>
              <a:latin typeface="Calibri"/>
            </a:endParaRPr>
          </a:p>
        </p:txBody>
      </p:sp>
      <p:pic>
        <p:nvPicPr>
          <p:cNvPr id="258" name="Picture 2" descr="СТОЯНКА МУТАФОВА: КАЛОЯНЧЕВ КЕПАЗИ НАЙ-БЛИЗКИЯ СИ ЧОВЕК! вестник ШОУ, №25, 21 юни 2006, с. 8-9"/>
          <p:cNvPicPr/>
          <p:nvPr/>
        </p:nvPicPr>
        <p:blipFill>
          <a:blip r:embed="rId2"/>
          <a:stretch/>
        </p:blipFill>
        <p:spPr>
          <a:xfrm>
            <a:off x="6095880" y="1600200"/>
            <a:ext cx="2498760" cy="16956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Георги Калоянчев &#10;Източник: Bulphot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4724280"/>
            <a:ext cx="1676520" cy="18860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http://www.standartnews.com/images/articles/orig_211899_bg.jpg"/>
          <p:cNvPicPr/>
          <p:nvPr/>
        </p:nvPicPr>
        <p:blipFill>
          <a:blip r:embed="rId5"/>
          <a:stretch/>
        </p:blipFill>
        <p:spPr>
          <a:xfrm>
            <a:off x="3124080" y="2057400"/>
            <a:ext cx="2475000" cy="44388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Емил Димитров &#10;Източник: Bulphoto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348680" y="4838760"/>
            <a:ext cx="1795320" cy="20192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2" descr="http://lili-ivanova.hit.bg/thumb6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867280" y="3300480"/>
            <a:ext cx="1524240" cy="1824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4" descr="Орлин Горанов &#10;Източник: Bulphoto"/>
          <p:cNvPicPr/>
          <p:nvPr/>
        </p:nvPicPr>
        <p:blipFill>
          <a:blip r:embed="rId10"/>
          <a:stretch/>
        </p:blipFill>
        <p:spPr>
          <a:xfrm>
            <a:off x="2057400" y="3429000"/>
            <a:ext cx="1523880" cy="17146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6" descr="Източник: pop.bg"/>
          <p:cNvPicPr/>
          <p:nvPr/>
        </p:nvPicPr>
        <p:blipFill>
          <a:blip r:embed="rId11"/>
          <a:stretch/>
        </p:blipFill>
        <p:spPr>
          <a:xfrm>
            <a:off x="304920" y="1752480"/>
            <a:ext cx="1523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39625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424456"/>
                </a:solidFill>
                <a:latin typeface="Calibri"/>
              </a:rPr>
              <a:t>Паметници </a:t>
            </a:r>
            <a:br>
              <a:rPr sz="4500"/>
            </a:br>
            <a:r>
              <a:rPr b="1" i="1" lang="en-US" sz="4500" spc="-1" strike="noStrike">
                <a:solidFill>
                  <a:srgbClr val="424456"/>
                </a:solidFill>
                <a:latin typeface="Calibri"/>
              </a:rPr>
              <a:t>на културата</a:t>
            </a:r>
            <a:endParaRPr b="0" lang="en-US" sz="4500" spc="-1" strike="noStrike">
              <a:solidFill>
                <a:srgbClr val="424456"/>
              </a:solidFill>
              <a:latin typeface="Calibri"/>
            </a:endParaRPr>
          </a:p>
        </p:txBody>
      </p:sp>
      <p:pic>
        <p:nvPicPr>
          <p:cNvPr id="266" name="Picture 4" descr="НДК"/>
          <p:cNvPicPr/>
          <p:nvPr/>
        </p:nvPicPr>
        <p:blipFill>
          <a:blip r:embed="rId2"/>
          <a:stretch/>
        </p:blipFill>
        <p:spPr>
          <a:xfrm>
            <a:off x="5443560" y="4724280"/>
            <a:ext cx="3700440" cy="19591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Софийски университет"/>
          <p:cNvPicPr/>
          <p:nvPr/>
        </p:nvPicPr>
        <p:blipFill>
          <a:blip r:embed="rId3"/>
          <a:stretch/>
        </p:blipFill>
        <p:spPr>
          <a:xfrm>
            <a:off x="5338800" y="609480"/>
            <a:ext cx="3805200" cy="27432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Фронтален изглед на Народна библиотека Свети Кирил и Методий"/>
          <p:cNvPicPr/>
          <p:nvPr/>
        </p:nvPicPr>
        <p:blipFill>
          <a:blip r:embed="rId4"/>
          <a:stretch/>
        </p:blipFill>
        <p:spPr>
          <a:xfrm>
            <a:off x="228600" y="426708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" descr="http://yoocards.com/data/media/15/sofia_7.jpg"/>
          <p:cNvPicPr/>
          <p:nvPr/>
        </p:nvPicPr>
        <p:blipFill>
          <a:blip r:embed="rId5"/>
          <a:stretch/>
        </p:blipFill>
        <p:spPr>
          <a:xfrm>
            <a:off x="3048120" y="2590920"/>
            <a:ext cx="3251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Храм-паметник “Александър Невски” с криптата"/>
          <p:cNvPicPr/>
          <p:nvPr/>
        </p:nvPicPr>
        <p:blipFill>
          <a:blip r:embed="rId2"/>
          <a:stretch/>
        </p:blipFill>
        <p:spPr>
          <a:xfrm>
            <a:off x="5365800" y="0"/>
            <a:ext cx="3778200" cy="29718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http://images02.snimka.bg/000402488.jpg"/>
          <p:cNvPicPr/>
          <p:nvPr/>
        </p:nvPicPr>
        <p:blipFill>
          <a:blip r:embed="rId3"/>
          <a:stretch/>
        </p:blipFill>
        <p:spPr>
          <a:xfrm>
            <a:off x="5181480" y="388620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" descr="Рила манастир вътре"/>
          <p:cNvPicPr/>
          <p:nvPr/>
        </p:nvPicPr>
        <p:blipFill>
          <a:blip r:embed="rId4"/>
          <a:stretch/>
        </p:blipFill>
        <p:spPr>
          <a:xfrm>
            <a:off x="0" y="3962520"/>
            <a:ext cx="3218040" cy="2895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2" descr="http://sotirmarchev.tripod.com/ficheto.jpg"/>
          <p:cNvPicPr/>
          <p:nvPr/>
        </p:nvPicPr>
        <p:blipFill>
          <a:blip r:embed="rId5"/>
          <a:stretch/>
        </p:blipFill>
        <p:spPr>
          <a:xfrm>
            <a:off x="0" y="0"/>
            <a:ext cx="5029200" cy="30052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2" descr="Храм-паметник „Рождество Христово“"/>
          <p:cNvPicPr/>
          <p:nvPr/>
        </p:nvPicPr>
        <p:blipFill>
          <a:blip r:embed="rId6"/>
          <a:stretch/>
        </p:blipFill>
        <p:spPr>
          <a:xfrm>
            <a:off x="2971800" y="2438280"/>
            <a:ext cx="264780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586764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424456"/>
                </a:solidFill>
                <a:latin typeface="Calibri"/>
              </a:rPr>
              <a:t>Писатели и поети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352680" y="1218960"/>
            <a:ext cx="2362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Де е България?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итат ли ме де зората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ме й огряла първи път,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итат ли ме де й земята,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що най-любя на светът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Тамо, аз ще отговоря,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де се белий Дунав лей,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де от изток Черно море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се бунтува и светлей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тамо, де се възвишава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горда Стара планина,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де Марица тихо шава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з тракийска равнина,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Българио, драга, мила,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земля пълна с добрини,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земля, що си ме кърмила,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моят поклон приемни!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Content Placeholder 4" descr="images.jpg"/>
          <p:cNvPicPr/>
          <p:nvPr/>
        </p:nvPicPr>
        <p:blipFill>
          <a:blip r:embed="rId2"/>
          <a:stretch/>
        </p:blipFill>
        <p:spPr>
          <a:xfrm>
            <a:off x="6477120" y="685800"/>
            <a:ext cx="2079360" cy="33051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Родният дом на Иван Вазов в Сопот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733920"/>
            <a:ext cx="3584520" cy="2695320"/>
          </a:xfrm>
          <a:prstGeom prst="rect">
            <a:avLst/>
          </a:prstGeom>
          <a:ln w="0">
            <a:noFill/>
          </a:ln>
        </p:spPr>
      </p:pic>
      <p:sp>
        <p:nvSpPr>
          <p:cNvPr id="202" name="Title 1"/>
          <p:cNvSpPr/>
          <p:nvPr/>
        </p:nvSpPr>
        <p:spPr>
          <a:xfrm flipV="1" rot="10800000">
            <a:off x="0" y="6477120"/>
            <a:ext cx="3124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Родният дом на Иван Вазов в </a:t>
            </a:r>
            <a:r>
              <a:rPr b="0" lang="ru-RU" sz="1400" spc="-1" strike="noStrike" u="sng">
                <a:solidFill>
                  <a:srgbClr val="67afbd"/>
                </a:solidFill>
                <a:uFillTx/>
                <a:latin typeface="Constantia"/>
                <a:hlinkClick r:id="rId5"/>
              </a:rPr>
              <a:t>Соп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5943600" y="3995640"/>
            <a:ext cx="3048120" cy="28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ван Минчев Ваз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е роден на 27.06.1850 г. в гр. Сопот. Учи в родния си град, в Калофер и в Пловдив. Живее за кратко в Румъния, където срещата с хъшовете насочва младия поет към патриотично-граждански теми, на които остава верен цял живот. Работи като учител и преводач, включва се в различни родолюбиви начинания - преди и след Освобождението, за кратко е министър. Но основното му призвание - писателството - дава облика на живота 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424456"/>
                </a:solidFill>
                <a:latin typeface="Calibri"/>
              </a:rPr>
              <a:t>Части от произведения на Иван Вазов</a:t>
            </a:r>
            <a:endParaRPr b="0" lang="en-US" sz="45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6840" y="2590560"/>
            <a:ext cx="3352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Левск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Манастирът тесен за мойта душа е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Кога човек дойде тук да се покае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трябва да забрави греховния мир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да бяга съблазни и да търси мир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Мойта съвест инак днеска ми говори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Това расо черно, що нося отгоре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не ме помирява с тия небеса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и когато в храма дигна си гласа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химн да пея богу, да получа раят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мисля, че той слуша тия, що ридая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в тоя дол плачевни, живот нестърпим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И мойта молитва се губи кат дим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и господ сърдит си затуля ухото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на светата песен и херувикото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Title 1"/>
          <p:cNvSpPr/>
          <p:nvPr/>
        </p:nvSpPr>
        <p:spPr>
          <a:xfrm>
            <a:off x="4267080" y="1600200"/>
            <a:ext cx="3124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Content Placeholder 2"/>
          <p:cNvSpPr/>
          <p:nvPr/>
        </p:nvSpPr>
        <p:spPr>
          <a:xfrm>
            <a:off x="4267080" y="1447920"/>
            <a:ext cx="3353040" cy="44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4800600" y="1295280"/>
            <a:ext cx="3733920" cy="57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onstantia"/>
              </a:rPr>
              <a:t>Опълченците на Ши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onstantia"/>
              </a:rPr>
              <a:t>...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, Шип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Три деня младите дружи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как прохода бранят. Горските доли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трепетно повтарят на боя ревъ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Пристъпи ужасни! Дванайсетий пъ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гъсти орди лазят по урвата ди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и тела я стелят, и кръв я зали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Бури подир бури! Рояк след рояк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юлейман безумний сочи върха п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и вика: "Търчете! Тамо са раите!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И ордите тръгват с викове сърдит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и "Аллах!" гръмовно въздуха разп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Върхът отговаря с други вик: ур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И с нов дъжд куршуми, камъни и дървь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дружините наши, оплискани с кърв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пушкат и отблъскват, без сигнал, без ред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всякой гледа само да бъде напре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и гърди геройски на смърт да излож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и един враг повеч мъртъв да полож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424456"/>
                </a:solidFill>
                <a:latin typeface="Calibri"/>
              </a:rPr>
              <a:t>Елин Пелин</a:t>
            </a:r>
            <a:br>
              <a:rPr sz="4500"/>
            </a:br>
            <a:endParaRPr b="0" lang="en-US" sz="4500" spc="-1" strike="noStrike">
              <a:solidFill>
                <a:srgbClr val="424456"/>
              </a:solidFill>
              <a:latin typeface="Calibri"/>
            </a:endParaRPr>
          </a:p>
        </p:txBody>
      </p:sp>
      <p:pic>
        <p:nvPicPr>
          <p:cNvPr id="210" name="Content Placeholder 5" descr="hermes_fr35.jpg"/>
          <p:cNvPicPr/>
          <p:nvPr/>
        </p:nvPicPr>
        <p:blipFill>
          <a:blip r:embed="rId2"/>
          <a:stretch/>
        </p:blipFill>
        <p:spPr>
          <a:xfrm>
            <a:off x="3886200" y="3657600"/>
            <a:ext cx="1905120" cy="2938320"/>
          </a:xfrm>
          <a:prstGeom prst="rect">
            <a:avLst/>
          </a:prstGeom>
          <a:ln w="0">
            <a:noFill/>
          </a:ln>
        </p:spPr>
      </p:pic>
      <p:sp>
        <p:nvSpPr>
          <p:cNvPr id="211" name="Title 1"/>
          <p:cNvSpPr/>
          <p:nvPr/>
        </p:nvSpPr>
        <p:spPr>
          <a:xfrm>
            <a:off x="228600" y="5715000"/>
            <a:ext cx="3886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одният дом на Елин Пелин в с. Байл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Родният дом на Елин Пелин в с. Байлово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2438280"/>
            <a:ext cx="3873600" cy="28958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http://tbn0.google.com/images?q=tbn:lpHO4-4WbTfaUM:http://upload.wikimedia.org/wikipedia/bg/thumb/6/6a/Elin_Pelin.jpg/160px-Elin_Pelin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553080" y="685800"/>
            <a:ext cx="2133720" cy="3214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2" descr="http://www.zlatnoto-pate.com/files/attach/pic1_105_106"/>
          <p:cNvPicPr/>
          <p:nvPr/>
        </p:nvPicPr>
        <p:blipFill>
          <a:blip r:embed="rId7"/>
          <a:stretch/>
        </p:blipFill>
        <p:spPr>
          <a:xfrm>
            <a:off x="7391520" y="3809880"/>
            <a:ext cx="1600200" cy="2189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http://www.zlatnoto-pate.com/files/attach/pic1_217_218"/>
          <p:cNvPicPr/>
          <p:nvPr/>
        </p:nvPicPr>
        <p:blipFill>
          <a:blip r:embed="rId8"/>
          <a:stretch/>
        </p:blipFill>
        <p:spPr>
          <a:xfrm>
            <a:off x="4038480" y="1600200"/>
            <a:ext cx="1590840" cy="2124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6" descr="http://www.knigabg.com/covers/330/2060.jpg"/>
          <p:cNvPicPr/>
          <p:nvPr/>
        </p:nvPicPr>
        <p:blipFill>
          <a:blip r:embed="rId9"/>
          <a:stretch/>
        </p:blipFill>
        <p:spPr>
          <a:xfrm>
            <a:off x="5867280" y="4495680"/>
            <a:ext cx="1524240" cy="213372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14"/>
          <p:cNvSpPr/>
          <p:nvPr/>
        </p:nvSpPr>
        <p:spPr>
          <a:xfrm>
            <a:off x="0" y="12952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е псевдоним на Димитър Иванов Стоянов (8.07.1877, с. Байлово, Софийско - 3.12.1949, Соф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19520" y="6091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5000" spc="-1" strike="noStrike">
                <a:solidFill>
                  <a:srgbClr val="424456"/>
                </a:solidFill>
                <a:latin typeface="Calibri"/>
              </a:rPr>
              <a:t>Ран Босилек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3505320"/>
            <a:ext cx="3733920" cy="30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РОДНА СТРЯХ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Бяла, спретната къщурк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ве липи отпред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Тука майчина милув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етих най-напред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Тука, под липите стар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е веднъж играх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тука с весели другар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качах и се смях..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Къщичке на дните злати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кът свиден и мил!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 за царските палат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е бих те сменил!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http://tbn0.google.com/images?q=tbn:yy648NgF2VdzjM:http://dichev.com/blog/wp-content/uploads/2007/06/ran_bosilek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914400"/>
            <a:ext cx="1828800" cy="22813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http://www.hermesbooks.com/images/b0234.jpg"/>
          <p:cNvPicPr/>
          <p:nvPr/>
        </p:nvPicPr>
        <p:blipFill>
          <a:blip r:embed="rId4"/>
          <a:stretch/>
        </p:blipFill>
        <p:spPr>
          <a:xfrm>
            <a:off x="5791320" y="2819520"/>
            <a:ext cx="2743200" cy="38401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http://knigibg.com/img/0016/big/7543_1.jpg"/>
          <p:cNvPicPr/>
          <p:nvPr/>
        </p:nvPicPr>
        <p:blipFill>
          <a:blip r:embed="rId5"/>
          <a:stretch/>
        </p:blipFill>
        <p:spPr>
          <a:xfrm>
            <a:off x="3124080" y="2057400"/>
            <a:ext cx="2667240" cy="3733920"/>
          </a:xfrm>
          <a:prstGeom prst="rect">
            <a:avLst/>
          </a:prstGeom>
          <a:ln w="0">
            <a:noFill/>
          </a:ln>
        </p:spPr>
      </p:pic>
      <p:sp>
        <p:nvSpPr>
          <p:cNvPr id="223" name="Content Placeholder 2"/>
          <p:cNvSpPr/>
          <p:nvPr/>
        </p:nvSpPr>
        <p:spPr>
          <a:xfrm>
            <a:off x="6019920" y="762120"/>
            <a:ext cx="2743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(псевдоним на Генчо Негенцов) е роден в Габрово през 1886 г. Завършва Априловската гимназия и известно време е учител. Следва в Софийския университет, после в Брюксел (право). Редактор на популярното списание "Детска радост". Автор е на "Косе-Босе" (1923), "Чик-чирик" (1925), "Патиланчо" (1926), "Баба Меца" (1928), "Патиланчо Данчо" (1929), "Палави ръчички" (1945), "Родна стряха" (1964) и др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8" descr="http://euliterarymarathonbg.iradeum.com/images/radichkov.jpg"/>
          <p:cNvPicPr/>
          <p:nvPr/>
        </p:nvPicPr>
        <p:blipFill>
          <a:blip r:embed="rId2"/>
          <a:stretch/>
        </p:blipFill>
        <p:spPr>
          <a:xfrm>
            <a:off x="6172200" y="762120"/>
            <a:ext cx="2639880" cy="38973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424456"/>
                </a:solidFill>
                <a:latin typeface="Calibri"/>
              </a:rPr>
              <a:t>Йордан Радичков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560" y="137160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onstantia"/>
              </a:rPr>
              <a:t>Р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оден е  на 24. 10. 1929 г. в с. Калиманица, Монтанско. Завършва гимназия в Берковица. Дълги години е редактор в литературни издания. Започва да публикува импресии, очерци и разкази в печата, а през 1959 г. издава първата си книга с разкази "Сърцето бие за хората". Неговият седми сборник с разкази "Свирепо настроение" (1965), както и следващите - "Водолей" (1967), "Козята брада" (1967), "Вятърът на спокойствието" (1968), "Ние, врабчетата" (1968), "Коженият пъпеш" (1969), "Верблюд" (1984) и др. променят познатите за литератураната ни традиция повествователни правила и проправя пътя на белетрист от друг разред. "Неосветените дворове" (1966), "Всички и никой" (1975), "Прашка" (1977) и "Ноев ковчег" (1988) представят автора като романист отново в специфичните радичковски измерения на жанра. Успоредно с това писателят се изявява като един от най-добрите български драматурзи, чиито пиеси продължават шествието си по сцените - "Суматоха" (1967), "Януари" (1974), "Лазарица" (1979), "Опит за летене" (1979). През последните години авторът добавя нови щрихи в творчеството си - "Мюре" (1997), "Пупаво време" (2000). Умира на 21.01.2004 г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Picture 6" descr="Нежната спирала"/>
          <p:cNvPicPr/>
          <p:nvPr/>
        </p:nvPicPr>
        <p:blipFill>
          <a:blip r:embed="rId3"/>
          <a:stretch/>
        </p:blipFill>
        <p:spPr>
          <a:xfrm>
            <a:off x="7086600" y="4146480"/>
            <a:ext cx="1781280" cy="2711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Ние, врабчетата"/>
          <p:cNvPicPr/>
          <p:nvPr/>
        </p:nvPicPr>
        <p:blipFill>
          <a:blip r:embed="rId4"/>
          <a:stretch/>
        </p:blipFill>
        <p:spPr>
          <a:xfrm>
            <a:off x="4800600" y="3352680"/>
            <a:ext cx="228600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424456"/>
                </a:solidFill>
                <a:latin typeface="Calibri"/>
              </a:rPr>
              <a:t>Български художници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86000" y="19810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Владимир Димитров-Майстор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2" descr="Майстора"/>
          <p:cNvPicPr/>
          <p:nvPr/>
        </p:nvPicPr>
        <p:blipFill>
          <a:blip r:embed="rId2"/>
          <a:stretch/>
        </p:blipFill>
        <p:spPr>
          <a:xfrm>
            <a:off x="457200" y="990720"/>
            <a:ext cx="1847880" cy="2457360"/>
          </a:xfrm>
          <a:prstGeom prst="rect">
            <a:avLst/>
          </a:prstGeom>
          <a:ln w="0">
            <a:noFill/>
          </a:ln>
        </p:spPr>
      </p:pic>
      <p:sp>
        <p:nvSpPr>
          <p:cNvPr id="232" name="Content Placeholder 2"/>
          <p:cNvSpPr/>
          <p:nvPr/>
        </p:nvSpPr>
        <p:spPr>
          <a:xfrm>
            <a:off x="0" y="3429000"/>
            <a:ext cx="42670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Рисувал изключително битови композиции. Един от най-ярките самобитни български художници, близък с изкуството си до живота и бита на народа. Вълнува се от красотата на родната земя и от декоративния стил на народното изкуство. Поетичното, декоративното и монументалното виждане на формите, богатата емоционалност и звучните багрени хармонии, постигнати в десетките му композиции, определят ярко неговия индивидуален облик на художник. Той е създал цяла галерия от характерни национални образи на селяни, селянки и девойки, претворил е с неповторимо художествено майсторство техния труд и народните обичаи и празненства. С националния си характер неговото изкуство е оставило дълбоки следи в нашата живопис. Представен е със "Сватба" - самобитно и типично за авторовия почерк платно, претворило непреходната хубост на българската жена, възпяващ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0" descr="http://art.domino.bg/works/bourgas/DSC_1656.jpg"/>
          <p:cNvPicPr/>
          <p:nvPr/>
        </p:nvPicPr>
        <p:blipFill>
          <a:blip r:embed="rId3"/>
          <a:stretch/>
        </p:blipFill>
        <p:spPr>
          <a:xfrm>
            <a:off x="6877080" y="1143000"/>
            <a:ext cx="2266920" cy="38098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2" descr="http://vegetarianstvoto.hit.bg/images/Maistora-kart04.jpg"/>
          <p:cNvPicPr/>
          <p:nvPr/>
        </p:nvPicPr>
        <p:blipFill>
          <a:blip r:embed="rId4"/>
          <a:stretch/>
        </p:blipFill>
        <p:spPr>
          <a:xfrm>
            <a:off x="4952880" y="1371600"/>
            <a:ext cx="1962360" cy="2430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http://www.artgallery-themaster.com/bg/themaster/img_larger/img/img3.jpg"/>
          <p:cNvPicPr/>
          <p:nvPr/>
        </p:nvPicPr>
        <p:blipFill>
          <a:blip r:embed="rId5"/>
          <a:stretch/>
        </p:blipFill>
        <p:spPr>
          <a:xfrm>
            <a:off x="4267080" y="3809880"/>
            <a:ext cx="2673360" cy="2286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4" descr="http://www.president.bg/img/paintings/maisora-big.jpg"/>
          <p:cNvPicPr/>
          <p:nvPr/>
        </p:nvPicPr>
        <p:blipFill>
          <a:blip r:embed="rId6"/>
          <a:stretch/>
        </p:blipFill>
        <p:spPr>
          <a:xfrm>
            <a:off x="6738840" y="4038480"/>
            <a:ext cx="24051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057040" y="1219320"/>
            <a:ext cx="34290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500" spc="-1" strike="noStrike">
                <a:solidFill>
                  <a:srgbClr val="424456"/>
                </a:solidFill>
                <a:latin typeface="Calibri"/>
              </a:rPr>
              <a:t>Златю </a:t>
            </a:r>
            <a:br>
              <a:rPr sz="4500"/>
            </a:br>
            <a:r>
              <a:rPr b="1" i="1" lang="bg-BG" sz="4500" spc="-1" strike="noStrike">
                <a:solidFill>
                  <a:srgbClr val="424456"/>
                </a:solidFill>
                <a:latin typeface="Calibri"/>
              </a:rPr>
              <a:t>Бояджиев</a:t>
            </a:r>
            <a:endParaRPr b="0" lang="en-US" sz="45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3760" y="762120"/>
            <a:ext cx="34290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Един от оригиналните български художници със силно изявена индивидуалност. По живописна трактовка, колорит и емоционално съдържание неговото творчество се дели на два периода - до парализата му и след нея, когато е принуден да рисува с лявата ръка. През втория период той се очертава като художник с още по-самобитен и експресивен живописен език. Картините "Дете", "Нощна паша", "Стадо говеда", "Бачково", изложени в различни зали, са едни от най-характерните и ценни произведения на автора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2" descr="http://tbn0.google.com/images?q=tbn:i2LMpyeSInxDKM:http://media.abv.bg/img.phtml%3Fid%3D22300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981080"/>
            <a:ext cx="1981080" cy="2467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http://www.bnr.bg/NR/rdonlyres/1AD53B21-629E-492B-A251-BC1C470392F1/0/Zl_Bojadjiev_Pod_oreha.jpg"/>
          <p:cNvPicPr/>
          <p:nvPr/>
        </p:nvPicPr>
        <p:blipFill>
          <a:blip r:embed="rId4"/>
          <a:stretch/>
        </p:blipFill>
        <p:spPr>
          <a:xfrm>
            <a:off x="5143680" y="3362400"/>
            <a:ext cx="4000320" cy="34956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http://plevengallery.hit.bg/images/1et10.jpg"/>
          <p:cNvPicPr/>
          <p:nvPr/>
        </p:nvPicPr>
        <p:blipFill>
          <a:blip r:embed="rId5"/>
          <a:stretch/>
        </p:blipFill>
        <p:spPr>
          <a:xfrm>
            <a:off x="2209680" y="2895480"/>
            <a:ext cx="25909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62520" y="838080"/>
            <a:ext cx="3962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500" spc="-1" strike="noStrike">
                <a:solidFill>
                  <a:srgbClr val="424456"/>
                </a:solidFill>
                <a:latin typeface="Calibri"/>
              </a:rPr>
              <a:t>Иван Мърквичка</a:t>
            </a:r>
            <a:endParaRPr b="0" lang="en-US" sz="45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51920" y="533520"/>
            <a:ext cx="20574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рофесор Иван Мърквичка (Ян Вацлав Мърквичка) e роден в </a:t>
            </a:r>
            <a:r>
              <a:rPr b="0" lang="ru-RU" sz="1200" spc="-1" strike="noStrike" u="sng">
                <a:solidFill>
                  <a:srgbClr val="67afbd"/>
                </a:solidFill>
                <a:uFillTx/>
                <a:latin typeface="Constantia"/>
                <a:hlinkClick r:id="rId2"/>
              </a:rPr>
              <a:t>Чехия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ru-RU" sz="1200" spc="-1" strike="noStrike" u="sng">
                <a:solidFill>
                  <a:srgbClr val="67afbd"/>
                </a:solidFill>
                <a:uFillTx/>
                <a:latin typeface="Constantia"/>
                <a:hlinkClick r:id="rId3"/>
              </a:rPr>
              <a:t>Живописец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, педагог и обществен деец. Учи в Пражката академия за изобразителни изкуства и в Мюнхенската художествена академия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о покана на Правителството на </a:t>
            </a:r>
            <a:r>
              <a:rPr b="0" lang="ru-RU" sz="1200" spc="-1" strike="noStrike" u="sng">
                <a:solidFill>
                  <a:srgbClr val="67afbd"/>
                </a:solidFill>
                <a:uFillTx/>
                <a:latin typeface="Constantia"/>
                <a:hlinkClick r:id="rId4"/>
              </a:rPr>
              <a:t>Източна Румелия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през </a:t>
            </a:r>
            <a:r>
              <a:rPr b="0" lang="ru-RU" sz="1200" spc="-1" strike="noStrike" u="sng">
                <a:solidFill>
                  <a:srgbClr val="67afbd"/>
                </a:solidFill>
                <a:uFillTx/>
                <a:latin typeface="Constantia"/>
                <a:hlinkClick r:id="rId5"/>
              </a:rPr>
              <a:t>1881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година идва в България. Назначен е като учител в </a:t>
            </a:r>
            <a:r>
              <a:rPr b="0" lang="ru-RU" sz="1200" spc="-1" strike="noStrike" u="sng">
                <a:solidFill>
                  <a:srgbClr val="67afbd"/>
                </a:solidFill>
                <a:uFillTx/>
                <a:latin typeface="Constantia"/>
                <a:hlinkClick r:id="rId6"/>
              </a:rPr>
              <a:t>Пловдив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Свързва се с най-изявените културни дейци в града - </a:t>
            </a:r>
            <a:r>
              <a:rPr b="0" lang="ru-RU" sz="1200" spc="-1" strike="noStrike" u="sng">
                <a:solidFill>
                  <a:srgbClr val="67afbd"/>
                </a:solidFill>
                <a:uFillTx/>
                <a:latin typeface="Constantia"/>
                <a:hlinkClick r:id="rId7"/>
              </a:rPr>
              <a:t>Иван Вазов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1200" spc="-1" strike="noStrike" u="sng">
                <a:solidFill>
                  <a:srgbClr val="67afbd"/>
                </a:solidFill>
                <a:uFillTx/>
                <a:latin typeface="Constantia"/>
                <a:hlinkClick r:id="rId8"/>
              </a:rPr>
              <a:t>Константин Величков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1200" spc="-1" strike="noStrike" u="sng">
                <a:solidFill>
                  <a:srgbClr val="67afbd"/>
                </a:solidFill>
                <a:uFillTx/>
                <a:latin typeface="Constantia"/>
                <a:hlinkClick r:id="rId9"/>
              </a:rPr>
              <a:t>Петко Каравелов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1200" spc="-1" strike="noStrike" u="sng">
                <a:solidFill>
                  <a:srgbClr val="67afbd"/>
                </a:solidFill>
                <a:uFillTx/>
                <a:latin typeface="Constantia"/>
                <a:hlinkClick r:id="rId10"/>
              </a:rPr>
              <a:t>Петко Р. Славейков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. Самия Константин Величков взема уроци по живопис при него. Двамата обсъждат възможностите за откриване на Рисувално училище в </a:t>
            </a:r>
            <a:r>
              <a:rPr b="0" lang="ru-RU" sz="1200" spc="-1" strike="noStrike" u="sng">
                <a:solidFill>
                  <a:srgbClr val="67afbd"/>
                </a:solidFill>
                <a:uFillTx/>
                <a:latin typeface="Constantia"/>
                <a:hlinkClick r:id="rId11"/>
              </a:rPr>
              <a:t>Пловдив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4" name="Picture 2" descr="http://tbn0.google.com/images?q=tbn:TvzbKAqdgBoeUM:http://standartnews.com/images/articles/orig_153457_bg.jpg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537320" y="1295280"/>
            <a:ext cx="1606680" cy="19051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http://www.duma.bg/2006/1006/071006/snimki/1601-2.jpg"/>
          <p:cNvPicPr/>
          <p:nvPr/>
        </p:nvPicPr>
        <p:blipFill>
          <a:blip r:embed="rId14"/>
          <a:stretch/>
        </p:blipFill>
        <p:spPr>
          <a:xfrm>
            <a:off x="2209680" y="3352680"/>
            <a:ext cx="2381400" cy="1791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http://i.dir.bg/calendar/upictures/features/f_22036073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286000" y="609480"/>
            <a:ext cx="1606680" cy="2467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2" descr="http://standartnews.com/images/uploaded_images/pic_42289_bg.jpg"/>
          <p:cNvPicPr/>
          <p:nvPr/>
        </p:nvPicPr>
        <p:blipFill>
          <a:blip r:embed="rId17"/>
          <a:stretch/>
        </p:blipFill>
        <p:spPr>
          <a:xfrm>
            <a:off x="3886200" y="1828800"/>
            <a:ext cx="3432240" cy="2276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http://plevengallery.hit.bg/images/1et01.jpg"/>
          <p:cNvPicPr/>
          <p:nvPr/>
        </p:nvPicPr>
        <p:blipFill>
          <a:blip r:embed="rId18"/>
          <a:stretch/>
        </p:blipFill>
        <p:spPr>
          <a:xfrm>
            <a:off x="6477120" y="3429000"/>
            <a:ext cx="2514600" cy="1828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4" descr="http://standartnews.com/images/uploaded_images/pic_42288_bg.jpg"/>
          <p:cNvPicPr/>
          <p:nvPr/>
        </p:nvPicPr>
        <p:blipFill>
          <a:blip r:embed="rId19"/>
          <a:stretch/>
        </p:blipFill>
        <p:spPr>
          <a:xfrm>
            <a:off x="3962520" y="4952880"/>
            <a:ext cx="3402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48:06Z</dcterms:created>
  <dc:creator>USER</dc:creator>
  <dc:description/>
  <dc:language>en-US</dc:language>
  <cp:lastModifiedBy>Home</cp:lastModifiedBy>
  <dcterms:modified xsi:type="dcterms:W3CDTF">2012-02-28T06:42:22Z</dcterms:modified>
  <cp:revision>49</cp:revision>
  <dc:subject/>
  <dc:title>Богатството на българската куртура</dc:title>
</cp:coreProperties>
</file>